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06B-F562-47A9-8EA5-F46C39BC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A5B-CC3F-4F40-BB4E-997EC4CB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593-7295-40BB-B07C-C86A1467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7DF-F4CC-4D66-92CB-C26E5AE2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4BD-7214-4A6B-AB6A-A0D536A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39F-EDC1-4B18-80F8-2D250EE7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820-81B7-4F3F-9E05-98B2F5AB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B79-FC5D-49D3-B25F-C483612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8B6-0E0B-4763-ADD8-9D0563E4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7CF-2B22-43C6-9AA8-271EB2E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3A1-AEFB-455F-B2EE-CF1D57A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479-AA0C-4FA1-814E-BECEE8F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24C-9375-4FB1-93EE-A0FD30FEF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4:30:45Z</dcterms:created>
  <dc:creator>Grupo Editorial</dc:creator>
  <dc:description/>
  <dc:language>en-US</dc:language>
  <cp:lastModifiedBy>Grupo Editorial</cp:lastModifiedBy>
  <dcterms:modified xsi:type="dcterms:W3CDTF">2001-09-27T14:35:20Z</dcterms:modified>
  <cp:revision>1</cp:revision>
  <dc:subject/>
  <dc:title>Sin título de diapositiva</dc:title>
</cp:coreProperties>
</file>